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D47-9C8C-449D-9DA7-8A297C19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81E-D4D6-4030-B286-5C9BC8E6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E5-5D7D-4B5E-AB91-6DCEB109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43B-D425-4D10-A5D4-7BF15EDF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0FA-8B1E-49AF-80EA-50F2815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4A8-5F76-4FD8-B221-0888F79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4EE8-94AC-4DE7-B62D-A89BE7CF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0FA-E531-425A-BBDE-30033E1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D0B5-D17B-4EF4-84B2-5BADD3B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843-A673-4567-8767-830B8B2E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0753-CC88-4397-84DB-65DA876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535-6120-444F-BA7D-A2E5ABC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773-58CD-46FC-A456-A84555A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ABC-3B72-4CEA-AD9E-22C6A7F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7AC3-D0DC-43AD-94FE-47C5FC9D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57B-1E45-4A36-9092-D957E8F0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A8F-3657-4CC4-9307-B6E3124A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4B18-73F0-4B6E-9552-7E44A412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7F9C-EB47-4B3C-8047-DF26924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4015-CE2F-4BA0-B828-6848BE8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D761-CCD1-4356-B95A-4E3BB6D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E8FF-7AF2-46DE-A243-D2818221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5F6-B566-4BEF-9623-C5E05E1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81C4-FC36-455E-9501-E7E23970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2C4E-D616-4DBC-8981-7FAE6E8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6A8A-8214-4841-95F9-3461625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52F7-F1BE-4560-99F5-075720F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FC6C-08A2-406E-BEE0-FFC96F1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4F35-195A-4E35-B5E0-D5C028E2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3E78-86ED-4608-A6C1-9939D067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6B0C-565A-471A-99FC-9957AED0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9C71-0E21-4767-B179-54262A5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F545-8702-4512-8552-C1F7042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367-C68D-4FCB-8C48-18BE322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65D5-E205-4BC5-A94D-4F8F547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E393-6F86-4989-9074-8543E75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30B8-F948-47B2-ACAE-C9FCFE1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0FDD-0A7E-4A15-9F5E-FD04B64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C61F1-7565-49AF-BE36-3B73208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D7CA-B5B8-42E1-9B49-4BC4F6C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579C-5914-40B5-8C47-3CF4418D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DE5D-6CC6-4883-B739-3B0739A6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B247-1ACA-4280-BB31-1602803C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832-CE37-4F52-B5D1-70D636B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723-BF6E-4BC5-B610-B8A0F7F3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FED-BCCE-4C88-B091-9CDE877B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4C6-819B-4EC3-8C1B-291939C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6C9-7BD6-4350-9449-D58B2A5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E515-3B37-4719-B7B8-354D4B249A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1A7-0F51-4F22-9BB6-41099B6E0CE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53F4-5EDB-431A-9D2D-9112F413E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7E9E-D230-4B21-A1B8-6D86C6862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russianlegacy.com/catalog/images/matryoshka_traditional/M544.jpg&amp;imgrefurl=http://russianart.pubks.com/Russian-Composers&amp;usg=__fzb4MVuDz7KIBxPhKs8vvrAC330=&amp;h=500&amp;w=671&amp;sz=112&amp;hl=en&amp;start=7&amp;zoom=1&amp;itbs=1&amp;tbnid=Ak0Wjk5Atlvt2M:&amp;tbnh=103&amp;tbnw=138&amp;prev=/images%3Fq%3Drussian%2Bcomposers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RUSSIAN 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y: Brianne D. and Daniel J.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42926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ussian Ortho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Orthodox is part of the Christian Religion it is the biggest of all the Eastern Orthodox churches the only Christian church that is bigger is the Roman Catholic chur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l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is a monotheistic type of religion. Islam is one of the fastest growing religions of the world. Adherents are called Musli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uda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daism began as the religion of the small nation of the Hebrews. And through thousands of years Judaism has continued to be a profoundly influential religion and cul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ians believe that Jesus is the son of God and that Christ was nailed to a cross and was kill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1676520"/>
            <a:ext cx="3276720" cy="30398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RT, MUSIC, AND LITERAT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has a very rich tradition of art, music, and lit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ballet dancers are famous all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ser Peter Tchaikovsky wrote some of the worlds favorite ballets including Sleeping Beauty and the Nutcracker 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1812 overture celebrated the Russian defeat against the French in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kolay Rimsky-Korsakov used Russian folktales and tunes in his operas and other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or Stravinsky’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rebir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e from a Russian leg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et Alexander Pushkin protested the lack of freedom under the Cz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o Tolstoy’s nove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r and Pe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counts how Russians rallied to defeat the French in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Fyodor Dostoyevsky wrote many novels that told about Russian life during the late 1800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1970s Alexander Solzhenstein wrote novels that told about the harsh conditions of Communist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33:12Z</dcterms:created>
  <dc:creator> </dc:creator>
  <dc:description/>
  <dc:language>en-US</dc:language>
  <cp:lastModifiedBy> </cp:lastModifiedBy>
  <dcterms:modified xsi:type="dcterms:W3CDTF">2010-12-20T14:50:56Z</dcterms:modified>
  <cp:revision>6</cp:revision>
  <dc:subject/>
  <dc:title>RUSSIAN CULTURE</dc:title>
</cp:coreProperties>
</file>